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2B1-F11B-44D0-B989-0A464560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5335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E6D-9127-4197-993B-837FD91F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5335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5335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4CCD-B58A-4ABE-BDB3-09AFFE6B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4419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4419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5335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5335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5335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D0AB-42AE-41B2-BCA8-0BCFD113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4CE3-3708-4006-8E34-535CB55B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2C6D-1BE1-4630-88F7-3B445822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0EF3-60E6-4FA3-B7D5-64A041FF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9418-81A1-4968-AC56-BA7F569F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BB04-F8AA-4F91-9E90-5D25F26D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8227-8D59-4241-A272-39B201C8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5335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978C-B86B-4EB9-A91C-9D05D9CF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60A-6FB1-404F-B1D6-1C61369A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5335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0A3F-72F1-4CC8-B1A8-CFA4CF9E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5335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2942-C310-43B5-B66F-FBA0EDB6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5335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C03A-E9EF-47C8-A3E6-1BDE41E5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5335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5335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6BAF-D310-48B9-A2AF-B5E5D7F3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4419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4419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5335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5335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5335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EF1C-2A0A-43ED-AE5D-4C6C2841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D70E-0A74-41E1-BFB9-6B13BDC6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DC8-02AA-49EB-BDDA-9526F4C4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618-BDC3-42F3-8165-D9785E2D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D29-87D6-4655-9890-1257E9BD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5335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95D-7FBB-4330-8246-E34D6B5A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5335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C43-8BA5-472A-B1F4-B19914AE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5335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545-B896-4CF3-8470-0F67B729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AC98-C293-4CBC-9A6D-E2A3F78FE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0432-8BBE-4182-A114-678A50E55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tirement Plann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am 4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by Cai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Charti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ck Jam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hael Leka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n Picciotto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son Stib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 Outpu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5760" y="1442880"/>
            <a:ext cx="838188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 Outpu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5760" y="1447920"/>
            <a:ext cx="83818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 Outpu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5760" y="1447920"/>
            <a:ext cx="83818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 Outpu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442880"/>
            <a:ext cx="8381880" cy="52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 Outpu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 Demonstr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rehensive retirement planning model is extremely useful to see the implications of various lifestyle cho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stal Ball “grabbers” are helpful in analyzing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tems for future consider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ment goal is comprised of liquid as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nses during retirement are not calcu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00200"/>
            <a:ext cx="7772400" cy="46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rial Problem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Out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Demonstr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 need for a comprehensive retirement planning tool that incorporates all major expenses determined by lifestyle cho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you complete your MBA, you are probably wonder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I be able to retire comfortably when I want t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impact of having another chil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 afford a second ho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nagerial Problem Defini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ive is to create a personalized model that computes th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ment nest egg at ret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lihood of reaching a specified retirement go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retirement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lution Methodolog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49568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inpu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to reti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savings / de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tole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 / mortgage exp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ture h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544760"/>
            <a:ext cx="472464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irement go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en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1K and IRA con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enting expen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495680"/>
            <a:ext cx="86104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inputs are used to calculate the cash flows for each monthly period based on Total Revenues - Total Expe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stal Ball simulates the investment returns for each monthly period based on the individual’s risk 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 Highligh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me growth is applied annually up to a maximum am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 of savings is computed.  If individual is not saving money, cost of debt is appl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l of risk is gradually adjusted as time to retirement decreases.  A pre-determined mix of stocks and bonds is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ariance was calculated after analyzing historical returns since 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 Highligh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al Formatting was used to prompt the user for additional information, if applic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280" y="4572000"/>
            <a:ext cx="83822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odel Highlights (cont’d)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8686800" cy="685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66680" y="4343400"/>
            <a:ext cx="70106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odel Highlights (cont’d)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1600200"/>
            <a:ext cx="7772400" cy="7621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16002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MIN((CurrComp*(1+CompGrowth)^(ROUNDUP(A3/12,0)-1)/(12)), IncomeC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609840" cy="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320" y="3219480"/>
            <a:ext cx="8915400" cy="1352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09480" y="1981080"/>
            <a:ext cx="1828800" cy="21337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20:53:58Z</dcterms:created>
  <dc:creator>Stern School</dc:creator>
  <dc:description/>
  <dc:language>en-US</dc:language>
  <cp:lastModifiedBy>Stern School</cp:lastModifiedBy>
  <dcterms:modified xsi:type="dcterms:W3CDTF">2002-12-04T22:19:17Z</dcterms:modified>
  <cp:revision>18</cp:revision>
  <dc:subject/>
  <dc:title>Financial Perform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